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628-EC92-49DB-9B45-D6AC08567E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770-F605-439A-AB5E-309E261FEC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И ПРИНЦИПИ ФАРМАКОКИНЕТИКЕ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Терапијски  мониторинг лекова у телесним течностима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90720" y="9144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мске студиј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фарма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линичка фармација 1 – Г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редавање бр.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131-D854-4867-8BC1-43A756686D0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рмакокинетички параметри з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тималан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зир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ВРЕ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3200" spc="-1" strike="noStrike" baseline="-25000">
                <a:solidFill>
                  <a:srgbClr val="c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1905-B334-4365-AF20-42FDDE6A959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57200" y="190512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олум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трибу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е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н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в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оз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истрибуциј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ff0000"/>
                </a:solidFill>
                <a:latin typeface="Comic Sans MS"/>
              </a:rPr>
              <a:t>одм</a:t>
            </a: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sr-RS" sz="18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риме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429000" y="46483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F5BE-FA81-4358-9F0E-AB094FF7941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може се претпоставити да се лек дистрибуирао, само у интраваскуларном простору и да није мога да изађе из крвних судова (плазма-експандер декстран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5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же се претпоставити да се лек дистрибуирао у оквиру екстрацелуларне течности, да није липосолубилан и да не продире унутар ћелија, нити у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0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лек је продро у све ћелије организма, а уколико је  већи од 40 литара, то значи да се лек негде и депоновао 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23B-6FD3-4AF3-8A5C-DA890A108BF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пу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о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Тотални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ир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вару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Clt=Clr+Clm+Clb+Cl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остал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с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ључе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сањ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r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m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ч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трансформ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b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лијар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лијар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кре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 ostalo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мона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12E4-CC03-4FC0-92F7-9D8A12558A3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кцио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фракција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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аз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рачунат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Q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нож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кц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метар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виси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д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дел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2FB5-65B9-416C-BA1C-5C845784D5E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њује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ус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азумева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талн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ир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азумева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елиминацију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ракци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ус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нес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илогаритамск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 flipV="1">
            <a:off x="685440" y="3656880"/>
            <a:ext cx="1080" cy="25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8"/>
          <p:cNvCxnSpPr/>
          <p:nvPr/>
        </p:nvCxnSpPr>
        <p:spPr>
          <a:xfrm>
            <a:off x="685800" y="6248160"/>
            <a:ext cx="28202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Straight Connector 13"/>
          <p:cNvSpPr/>
          <p:nvPr/>
        </p:nvSpPr>
        <p:spPr>
          <a:xfrm>
            <a:off x="685800" y="4191120"/>
            <a:ext cx="22096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" name="Straight Arrow Connector 14"/>
          <p:cNvCxnSpPr/>
          <p:nvPr/>
        </p:nvCxnSpPr>
        <p:spPr>
          <a:xfrm flipV="1">
            <a:off x="5105160" y="3656880"/>
            <a:ext cx="1080" cy="25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5"/>
          <p:cNvCxnSpPr/>
          <p:nvPr/>
        </p:nvCxnSpPr>
        <p:spPr>
          <a:xfrm>
            <a:off x="5105160" y="6248160"/>
            <a:ext cx="2819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Arc 2"/>
          <p:cNvSpPr/>
          <p:nvPr/>
        </p:nvSpPr>
        <p:spPr>
          <a:xfrm>
            <a:off x="5181480" y="3886200"/>
            <a:ext cx="2316240" cy="2395440"/>
          </a:xfrm>
          <a:custGeom>
            <a:avLst/>
            <a:gdLst>
              <a:gd name="textAreaLeft" fmla="*/ 0 w 2316240"/>
              <a:gd name="textAreaRight" fmla="*/ 2316600 w 231624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6858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инетика I ред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3583440" y="6095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8079480" y="6019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176080" y="632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инетика 0 ред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26"/>
          <p:cNvSpPr/>
          <p:nvPr/>
        </p:nvSpPr>
        <p:spPr>
          <a:xfrm rot="16200000">
            <a:off x="-1469520" y="4359240"/>
            <a:ext cx="37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(плазма концентрација ле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7"/>
          <p:cNvSpPr/>
          <p:nvPr/>
        </p:nvSpPr>
        <p:spPr>
          <a:xfrm rot="16200000">
            <a:off x="2949840" y="4359240"/>
            <a:ext cx="37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(плазма концентрација ле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57D-461E-4CFF-8710-0F80F734194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микроб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миногликозид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фалоспори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нкомици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иш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ч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ич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ч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мет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EB2-E75A-42C5-85DF-729100F7A66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иш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523880"/>
            <a:ext cx="89917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ципрочн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ањит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nC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 + ln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логаритмов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=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чинам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видет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бил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чи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K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тн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м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A5E-B212-42A8-BE91-271A0EC7C7F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ајам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ч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мет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рш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ВР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2400" spc="-1" strike="noStrike" baseline="-25000">
                <a:solidFill>
                  <a:srgbClr val="c00000"/>
                </a:solidFill>
                <a:latin typeface="Arial"/>
              </a:rPr>
              <a:t>1/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вин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0,693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3809880" y="5867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РМАКОКИНЕТСКИХ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s/V=K    ili    CLs=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EACA-112E-4C70-B3EA-9C80126E8C5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астоп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вал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уч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мул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ћ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иж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њ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43A7-D101-462A-87FA-6FDC71A70C2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уме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ић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уме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т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њем дозе лека уз исти дозни интер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аћењем дозног интервала уз исту д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ки пут када се мењају дозе или дозни интервал, потребно је 5Т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а се достигне ново равнотежн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0A43-4C79-4B6E-BE14-4E8A3E497E4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НОГ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ВАЛ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Ј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зн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X0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4BB8-644A-4592-888C-F55FFBCB524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Ј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ирај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лесној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м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ча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тес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поалбуминем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уј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атациј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B82-8329-4DFB-B7B7-BFDDAC7A7FD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макодинами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вор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центра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ова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ујуће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кључујућ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менс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ензите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ск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жељен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33520" y="3505320"/>
            <a:ext cx="1523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жим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зир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90920" y="3505320"/>
            <a:ext cx="198108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572000" y="3505320"/>
            <a:ext cx="1219320" cy="1676160"/>
          </a:xfrm>
          <a:prstGeom prst="rect">
            <a:avLst/>
          </a:prstGeom>
          <a:solidFill>
            <a:srgbClr val="fca9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553080" y="3429000"/>
            <a:ext cx="18288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фекa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447920" y="2895480"/>
            <a:ext cx="2286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5029200" y="2895480"/>
            <a:ext cx="2514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армакодинам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7"/>
          <p:cNvSpPr/>
          <p:nvPr/>
        </p:nvSpPr>
        <p:spPr>
          <a:xfrm rot="5400000">
            <a:off x="1485720" y="4686120"/>
            <a:ext cx="1219320" cy="26668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9"/>
          <p:cNvSpPr/>
          <p:nvPr/>
        </p:nvSpPr>
        <p:spPr>
          <a:xfrm rot="5400000">
            <a:off x="5752800" y="4381560"/>
            <a:ext cx="1219320" cy="29718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2133720" y="43434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5943600" y="434340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32C-7342-46FC-818F-4F2EF432829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кинетик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динам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писа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зн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ст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781680" y="1905120"/>
            <a:ext cx="2057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фект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04920" y="3429000"/>
            <a:ext cx="3504960" cy="342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авилно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дозирања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реш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аса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олумен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елесних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нтеракциј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оцес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етаболиз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5638680" y="3505320"/>
            <a:ext cx="32767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татус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ецепто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енетск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едиспози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нтерак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осебн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оула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080-4A45-42F0-A8B0-CB045AD4089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ноги фармакокинетички фактори утичу на концентрацију лека у плазми, односно на одговор појединца на л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дивидуалне карактеристике пацијента (генетика) које утичу на метаболизам и елиминацију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ријације у апсорп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олошко стање (узраст..) или болест утичу на промене у апсорпцији, дистрибуцији или елимин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8E7-636D-4705-BF46-6A996FCAFD8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већину лекова интериндивидуалне разлике утичу на разлике у постизању концентрације лека у пла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Терапијски мониторинг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ћење концентрације лека у плазми има вредност кад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 добра корелација између фармаколошког одговора и плазма концен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лек има узак терапијски индекс (терапијска конц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блиска токсичној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фармаколошки еф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е може другим средствима измерити (н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вни притисак и антихипертензиви 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интериндивидуалне разлике концентрације лека у плазми последица величине дозе лек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5EC-4543-4DBE-A6C2-7C3D460024C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572000" y="4419720"/>
            <a:ext cx="396252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УБ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4572000" y="2895480"/>
            <a:ext cx="3962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46600" y="3344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572000" y="373392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457200" y="1066680"/>
            <a:ext cx="83818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расте 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азми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већава се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из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због примене ле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6"/>
          <p:cNvSpPr/>
          <p:nvPr/>
        </p:nvSpPr>
        <p:spPr>
          <a:xfrm flipV="1">
            <a:off x="4038480" y="2209320"/>
            <a:ext cx="0" cy="388620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8954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274320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3C52-CA89-4362-99E1-0BBD9F993B1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и мониторинг лека је мерење концентрације у плазми ради одређивања оптималне  терапије болесника – у складу са индивидуалним потребама   болесника , као и карактеристикама л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C2A-4C30-4F63-9237-666EE1178B3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з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гокс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0,9-2  ng/ml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тамиц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-10 mg/l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дока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,5-5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ијум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0,6 -1,4 mEq/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обарбитал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5-40 mg/l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0-20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нид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-5 mg/l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фил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0-20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49:59Z</dcterms:modified>
  <cp:revision>48</cp:revision>
  <dc:subject/>
  <dc:title>Развој фармацеутске делатности</dc:title>
</cp:coreProperties>
</file>